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4B49-6C12-4003-8593-9B60D81AC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didates of 18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mocrats – Lewis Cass – old war veteran, proponent of popular sovereign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igs – Zachary Taylor – hero of M-A war, no former experience, slave ow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e-Soilers – MV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ort Wilmot Proviso, no expansion of slavery, promote settl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e soil, speech, labor, and 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very of Gold fuels pop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government – no infra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titution prohibits sla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naway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ern assis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rriet Tub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 changes bal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xas – New Mexico disputed terri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.C. issues of sla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0D7E-B8C3-4D3F-89D6-F1995002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ED3-B4CE-44A4-93DD-3FD1B189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EC1E-CB25-430F-925F-658196DF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63B5-4F29-481F-BEA6-5146ECDF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FB86-4AC3-4252-A68A-07F307D5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7957-7699-4441-81EC-4AAD4F7D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BAF0-BF17-417E-9A07-58E6C507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B658-F5A3-46B0-8C1E-CB00C16F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8F41-AD7E-41D7-A206-CF06666F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8705-6D9C-41AE-8CD3-3C4C4A45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BF41-AE35-4E77-8AFB-80315418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F662-FF24-4CE1-B090-11063933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3EB6-7841-4609-BAB6-6C6B6142D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5 Reading Keys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fest Destin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s 462-4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fest Des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necessar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ostook War (not in the bo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e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&amp;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&amp;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k’s Administr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s 470-4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of 18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 with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ll 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xican – American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mot Proviso (mentioned on pg 4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y of Guadalupe Hidal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forn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s 477-48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fornia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of 18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-Soi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 Sovereig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3:09:58Z</dcterms:created>
  <dc:creator>School District U46</dc:creator>
  <dc:description/>
  <dc:language>en-US</dc:language>
  <cp:lastModifiedBy>School District U46</cp:lastModifiedBy>
  <dcterms:modified xsi:type="dcterms:W3CDTF">2009-11-09T13:10:03Z</dcterms:modified>
  <cp:revision>1</cp:revision>
  <dc:subject/>
  <dc:title>U5 Reading Keys Part 2</dc:title>
</cp:coreProperties>
</file>